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943D-6B91-4916-9EBD-DFE06794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79167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4594680"/>
            <a:ext cx="79167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8AE4-AE6E-4C18-A097-7ACDFFB4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612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E872-4519-4792-B94A-7CD0E8EB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55880" y="234000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2480" y="234000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459468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55880" y="459468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2480" y="459468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3166-B8F8-431C-9BA1-352A7CC5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34F7-7DC5-4B49-9801-BFD3AE46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79280" y="2340000"/>
            <a:ext cx="7916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6347-0B41-4244-B57D-A7741112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7916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2339-2F94-44A0-A3A2-13F956CE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67C2-9CEB-471C-BF27-C990BDC6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39BE-D7A7-4836-A137-CEF52A9D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0360" y="717120"/>
            <a:ext cx="84567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D8C8-7C8E-4EB0-83F9-DEF46F08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7928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5EC5-A90F-4BFD-84EA-A13D2579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2340000"/>
            <a:ext cx="7916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3A76-224C-4E1F-A1BD-89EB4D13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612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A36A-8A8B-457A-BEDB-E25AEF18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79280" y="4594680"/>
            <a:ext cx="79167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8CFA-D8A7-4DF2-AE0D-D1DC7A3A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79167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79280" y="4594680"/>
            <a:ext cx="79167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1756-52CD-4F42-908F-0C654C8E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7928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612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B60A-270D-41F0-B21C-D6FA0716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55880" y="234000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2480" y="234000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79280" y="459468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55880" y="459468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2480" y="459468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A20B-D14B-4A0E-8280-73EB4B465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3C6EF-6C2A-4199-92FD-99AC1A88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79280" y="2340000"/>
            <a:ext cx="7916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59FB5-DF44-435B-9983-3FE39E7F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7916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81F10-34BF-48C3-93E5-D9A553ED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6E889-9006-4073-B901-366D4933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7ECF5-1E1C-48E4-8E65-D72D88EB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7916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0817-B140-4384-BCA8-38FA9BF1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20360" y="717120"/>
            <a:ext cx="84567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2225D-AE4D-4AFE-940C-0AC881E7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7928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087C0-04B2-4FC0-A524-C16A632C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3612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52937-8197-4E74-AE7B-C33A3894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79280" y="4594680"/>
            <a:ext cx="79167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50352-1BAF-4548-8503-3189237C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79167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79280" y="4594680"/>
            <a:ext cx="79167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7B514-922F-48CD-B153-44BF3D88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7928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3612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78173-FDB5-41D7-8DFA-8355E858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55880" y="234000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32480" y="234000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079280" y="459468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55880" y="459468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32480" y="459468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84268-967F-4DBC-8D39-53C36010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383D2-449F-4EF7-85CC-C04FB934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079280" y="2340000"/>
            <a:ext cx="7916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A73F7-9A6E-4BD1-B873-785109B8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7916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EEB2B-8C16-4D60-8BA5-43275BD7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A986-E707-4CB5-93D2-A317F6CD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23FF8-E2EF-4F60-8A1F-FD00903C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82FA4-7B7A-4334-9F93-4CDC6B7D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0360" y="717120"/>
            <a:ext cx="84567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61D02-266A-46B6-989D-2E3E593D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7928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065EF-4F5F-44BA-9ED2-FC401ED0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3612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7E274-F02D-4BB5-BE7D-8C59B617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79280" y="4594680"/>
            <a:ext cx="79167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FA329-BCF3-4FFD-B5EA-F9B6133C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79167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079280" y="4594680"/>
            <a:ext cx="79167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D173F-FB79-4AFD-A51C-AC03049B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7928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3612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A03F0-4470-43DB-B37C-940B97F1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55880" y="234000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32480" y="234000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079280" y="459468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55880" y="459468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32480" y="459468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623AD-8778-47F2-AAF0-68620473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4CC79-2639-4C2A-BE95-E2FE96C6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BDCA-512D-45BD-83DA-6C397356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079280" y="2340000"/>
            <a:ext cx="7916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A5611-7D85-41B6-B898-8876DE0C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7916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FA1AE-981E-4993-AD34-12ED9817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44D38-FE1C-461C-BFF1-606930D7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CB1E5-C3F9-4142-AE10-198BAFB6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20360" y="717120"/>
            <a:ext cx="84567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6EDB8-C38B-4609-B874-C609CB43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7928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C112F-CD91-45A5-8498-2DE41CE2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3612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4F10C-2331-4B44-B0FC-11C52F5A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79280" y="4594680"/>
            <a:ext cx="79167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F1F9D-BEE0-4B7A-834A-03A34FD1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79167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079280" y="4594680"/>
            <a:ext cx="79167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1A15A-BE71-4DB4-8D0F-260446EC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07928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3612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7FC2B-9364-4F4D-907C-AA8DA63D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360" y="717120"/>
            <a:ext cx="84567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F54E-0E35-4755-B797-1FE9A752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55880" y="234000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32480" y="234000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079280" y="459468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55880" y="459468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32480" y="4594680"/>
            <a:ext cx="2548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FCCB8-AB71-4469-A209-9136935D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E837-2491-42AA-87B9-91F1D40F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6120" y="459468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6786-54C8-4218-959A-FD40002F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6120" y="2340000"/>
            <a:ext cx="386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4594680"/>
            <a:ext cx="79167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2BBB-3642-4520-AC64-A10AAC71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25D66-0E54-4DBF-A0C3-02D59E1EFD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360" y="553680"/>
            <a:ext cx="8637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984320"/>
            <a:ext cx="827748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2360" y="645480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45480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83000" y="645480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21EF7-8F44-4193-8416-F86A819925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2057400"/>
            <a:ext cx="906768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994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994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994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45991-E2F4-4975-B013-BC53D065819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079280" y="2340000"/>
            <a:ext cx="7916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B4B8D-676B-4D7A-94D3-8311B1F1322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712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9640" y="1768320"/>
            <a:ext cx="88171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39280" y="6995880"/>
            <a:ext cx="23353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71840" y="6995880"/>
            <a:ext cx="31780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37080" y="6995880"/>
            <a:ext cx="23353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75521-9F10-466E-B379-867D672CC13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mar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539280" y="1767960"/>
            <a:ext cx="88203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475000" y="278748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33333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66"/>
                </a:solidFill>
                <a:latin typeface="Arial Black"/>
              </a:rPr>
              <a:t>Division word problem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3366"/>
              </a:soli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0360" y="717480"/>
            <a:ext cx="8459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d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79640" y="2339640"/>
            <a:ext cx="792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3 weeks harry earned 42 wands how many wands did harry earn each week? Every week harry earns the same amount of wan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20360" y="763560"/>
            <a:ext cx="845964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95400" y="2286000"/>
            <a:ext cx="79200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2       3 =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16600" y="4921200"/>
            <a:ext cx="457200" cy="457200"/>
          </a:xfrm>
          <a:prstGeom prst="ellipse">
            <a:avLst/>
          </a:prstGeom>
          <a:solidFill>
            <a:srgbClr val="99ccff"/>
          </a:solidFill>
          <a:ln w="146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871880" y="3625920"/>
            <a:ext cx="457200" cy="457200"/>
          </a:xfrm>
          <a:prstGeom prst="ellipse">
            <a:avLst/>
          </a:prstGeom>
          <a:solidFill>
            <a:srgbClr val="99ccff"/>
          </a:solidFill>
          <a:ln w="146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20360" y="762120"/>
            <a:ext cx="84582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143000" y="2401560"/>
            <a:ext cx="791856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35240" y="270684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0800000">
            <a:off x="1828440" y="274428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2779560"/>
            <a:ext cx="228600" cy="26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78000" y="3139920"/>
            <a:ext cx="20484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51080" y="3429000"/>
            <a:ext cx="228600" cy="11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21156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82720" y="328284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14360" y="371628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375120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3657600"/>
            <a:ext cx="228600" cy="277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257640" y="762120"/>
            <a:ext cx="3600360" cy="180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Array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418320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51080" y="425592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17640" y="414828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468792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14:14:48Z</dcterms:created>
  <dc:creator/>
  <dc:description/>
  <dc:language>en-US</dc:language>
  <cp:lastModifiedBy/>
  <cp:revision>1</cp:revision>
  <dc:subject/>
  <dc:title/>
</cp:coreProperties>
</file>